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16-269B-4C39-8DDF-07E97758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3A8-D5D0-4402-A930-3563FE65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286-60B0-4E79-BEC6-774DC2EC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61C-7741-49CE-859E-C3D26776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E1B-DD55-44D2-A0D8-9E3304B4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7D1-9570-49EC-900E-D93FE96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305-660D-41CF-ABF5-5B797E8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17D-D0FB-4E92-93D5-D91A4A9C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6CA-1BBB-482E-9E11-635FB2E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ADC-720B-4FD7-90A5-D7CB61D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F67-DDF0-4181-9C5F-95E1D82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03A-07FA-466D-9421-02D86CCD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A087-E92B-4B17-A12B-C2D83BB1C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3"/>
          <p:cNvSpPr/>
          <p:nvPr/>
        </p:nvSpPr>
        <p:spPr>
          <a:xfrm>
            <a:off x="0" y="0"/>
            <a:ext cx="57150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23 &amp; 24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762120"/>
            <a:ext cx="37339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Focus tod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pen up you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x Weeks Focus Word Document and Prepare for the test—INK 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1 &amp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7 &amp;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9 &amp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25 &amp;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3 &amp;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5 &amp;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www.perlgurl.org/archives/blogpics/AfricaFieldNotes/WebGiraffe02.jpg"/>
          <p:cNvPicPr/>
          <p:nvPr/>
        </p:nvPicPr>
        <p:blipFill>
          <a:blip r:embed="rId2"/>
          <a:srcRect l="0" t="0" r="0" b="4913"/>
          <a:stretch/>
        </p:blipFill>
        <p:spPr>
          <a:xfrm>
            <a:off x="3809880" y="1600200"/>
            <a:ext cx="552924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Cloud Callout 6"/>
          <p:cNvSpPr/>
          <p:nvPr/>
        </p:nvSpPr>
        <p:spPr>
          <a:xfrm>
            <a:off x="7162920" y="0"/>
            <a:ext cx="1981080" cy="1908000"/>
          </a:xfrm>
          <a:prstGeom prst="cloudCallout">
            <a:avLst>
              <a:gd name="adj1" fmla="val -46078"/>
              <a:gd name="adj2" fmla="val 97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7391520" y="533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for Focus Te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23T13:47:37Z</dcterms:modified>
  <cp:revision>132</cp:revision>
  <dc:subject/>
  <dc:title>Slide 1</dc:title>
</cp:coreProperties>
</file>